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4.png" ContentType="image/png"/>
  <Override PartName="/ppt/media/image9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0.jpeg" ContentType="image/jpeg"/>
  <Override PartName="/ppt/media/image5.png" ContentType="image/png"/>
  <Override PartName="/ppt/media/image1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12.jpeg" ContentType="image/jpe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5D6E7-5BFD-4828-B55C-8AB837F0161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66321-29C6-451B-A8FD-F57E90CB5B8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6DFD-6797-4092-B0C9-5C69D5E46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B28A-08FD-4DDF-BC59-3AFAC6CCA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1F40-9048-43AE-A779-A8BF5F5F2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85B9-234B-46E7-A17F-FDB117665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D4C31-AAEE-4A7B-978B-C56ED6542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F0386-F402-4AFD-95FB-394FE9D69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8387F-5E7C-4C37-95F6-05B24D690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F8018-6F59-4DB5-8A48-62EEE6992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BEB12-6FFB-47D9-B0D3-1C3D8E4BE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9122A-B90E-4569-894F-214AA2D58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6949B-D188-45C3-9EF5-D2D3FF149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1ACF-1291-4F15-8DDF-2B9AAC4CF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0FF9D-F4F5-482E-AB5F-3E09E315A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A6523-4D74-427E-A25E-FF36E1D63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37401-B523-4C55-BFCF-0E1F1EF57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3114D-A019-494E-9EB2-0402C491C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77D8D-0D25-4296-82F6-47FF28257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CB5187-10D4-4CDA-B69A-5E2ED1B4B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250236-03EE-4BEA-AD0E-98F182358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09EF14-8AA8-4D9C-9FCD-65110CBB4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9C2E23-45A2-48D1-88C0-46A5D3E57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9190B3-3FD3-4A3C-B1E8-22FE36FAA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B866-5FE0-4E29-8D9F-4EF94D377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F1D71F-3147-40AC-A549-95D39672D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21E1EE-730B-4276-994C-6E27C2C6B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CF4A50-6FFE-4E2A-AC52-BCE4F6F44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CDCDAB-1557-44AC-90F3-F4C04151A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C40699-0B69-4D13-B80C-7C6C5A479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6722C0-0631-4C2D-94D0-24AA0EBB7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C10AE8-1F9D-42FA-9778-C9669ED80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815A83-9B3F-473D-B45F-7911E3DD7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35C80B-D7E2-4522-AF9C-71456C615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9D404F-CDA7-4004-86C6-9FA3B15CB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2D65-7AE9-4C3D-A100-6883EB79F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681306-779D-44E3-B554-7546FF087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AD2156-BD92-4ACE-A220-8991ADB87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3D6D4E-BD70-4BC9-B1DE-EC156A5D0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B6D052-7794-4E76-8E5B-5EF3C0334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D0F04D-01D2-4872-B040-6FC483B19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F3BE0A-639E-47BB-8EFD-C009226DF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4B46D3-586A-4C30-8FD4-BAF15D79D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3703BB-E657-4568-A0BC-A74EA9F8D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C6D41F-5AE5-4E40-BCA3-C1B83D4C9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3C74-9F78-4BEB-8F8C-C31AE8ABF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C4F0-15C1-40A0-B61D-DDF3B1434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60B9-6FA6-4C7D-8AEC-84124B6CF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C4BF-9005-423B-8881-C3D719289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534F-D32C-41C4-B5F3-3A7BC3F2F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8344D-828C-4FBB-A6AA-06DF664B143C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D68A8-25DD-4E76-BE3F-4C53AE457DD4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DF92B-5C69-4730-9D09-1DFC1A369C16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57AF0-9A33-4595-8907-6F080CFF0C67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50560" y="155700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спользование приемов смыслового чтения на учебных занятиях в начальной школе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6840" y="4581360"/>
            <a:ext cx="8218440" cy="174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епанова О.В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альной школы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: «Организм человека».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класс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934640"/>
            <a:ext cx="8362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Организм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2. Живой, действующий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3. Командует, работает, обеспечивает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4. Работает, как часы!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5. Механизм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ём: «Верите ли Вы…».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 «Верю- не верю»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50920" indent="-2509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Тупой угол – это угол, который нарисован тупым карандашом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Угол – это геометрическая фигур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Угол состоит из двух пресекающихся прямых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Бывают углы остроумные и тупые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Угол состоит из двух лучей, выходящих из одной точки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Равные углы – это те, у которых равны стороны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Бывает угол прямой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Угол может быть тощим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Острый угол – это угол, которым можно уколоться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Рисунок 1" descr="&amp;Pcy;&amp;rcy;&amp;icy;&amp;iocy;&amp;mcy; «&amp;Kcy;&amp;lcy;&amp;acy;&amp;scy;&amp;tcy;&amp;iecy;&amp;rcy;» &amp;Zcy;&amp;acy;&amp;dcy;&amp;acy;&amp;chcy;&amp;icy; &amp;ncy;&amp;acy; &amp;dcy;&amp;vcy;&amp;icy;&amp;zhcy;&amp;iecy;&amp;ncy;&amp;icy;&amp;iecy; &amp;Vcy;&amp;rcy;&amp;iecy;&amp;mcy;&amp;yacy; &amp;Rcy;&amp;acy;&amp;scy;&amp;scy;&amp;tcy;&amp;ocy;&amp;yacy;&amp;ncy;&amp;icy;&amp;iecy; &amp;Scy;&amp;kcy;&amp;ocy;&amp;rcy;&amp;ocy;&amp;scy;&amp;tcy;&amp;softcy; S=V*t V=S:t t=S:V V=8 &amp;kcy;&amp;mcy; / &amp;chcy; t= 5&amp;chcy; ?"/>
          <p:cNvPicPr/>
          <p:nvPr/>
        </p:nvPicPr>
        <p:blipFill>
          <a:blip r:embed="rId1"/>
          <a:stretch/>
        </p:blipFill>
        <p:spPr>
          <a:xfrm>
            <a:off x="851040" y="836640"/>
            <a:ext cx="7489800" cy="59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Рисунок 1" descr="&amp;Zcy;&amp;acy;&amp;dcy;&amp;acy;&amp;ncy;&amp;icy;&amp;yacy; «&amp;ncy;&amp;acy; &amp;dcy;&amp;ocy;&amp;pcy;&amp;ocy;&amp;lcy;&amp;ncy;&amp;iecy;&amp;ncy;&amp;icy;&amp;iecy; &amp;icy;&amp;ncy;&amp;fcy;&amp;ocy;&amp;rcy;&amp;mcy;&amp;acy;&amp;tscy;&amp;icy;&amp;icy;» &amp;Ucy; &amp;bcy;&amp;acy;&amp;bcy;&amp;ucy;&amp;shcy;&amp;kcy;&amp;icy; &amp;bcy;&amp;ycy;&amp;lcy;&amp;ocy; 50 &amp;rcy;. &amp;Ocy;&amp;ncy;&amp;acy; &amp;icy;&amp;scy;&amp;tcy;&amp;rcy;&amp;acy;&amp;tcy;&amp;icy;&amp;lcy;&amp;acy; &amp;rcy;. &amp;Scy;&amp;kcy;&amp;ocy;&amp;lcy;&amp;softcy;&amp;kcy;&amp;ocy; &amp;rcy;&amp;ucy;&amp;bcy;&amp;lcy;&amp;iecy;&amp;jcy; &amp;ocy;&amp;scy;&amp;tcy;&amp;acy;&amp;lcy;&amp;ocy;&amp;scy;&amp;softcy; &amp;ucy; &amp;bcy;&amp;acy;&amp;bcy;&amp;ucy;&amp;shcy;&amp;kcy;&amp;icy;? &amp;TScy;&amp;iecy;&amp;ncy;&amp;acy; &amp;bcy;&amp;icy;&amp;lcy;&amp;iecy;&amp;tcy;&amp;acy; &amp;rcy;. &amp;Pcy;&amp;acy;&amp;scy;&amp;scy;&amp;acy;&amp;zhcy;&amp;icy;&amp;rcy; &amp;ocy;&amp;tcy;&amp;dcy;&amp;acy;&amp;lcy; &amp;vcy; &amp;kcy;&amp;acy;&amp;scy;&amp;scy;&amp;ucy; &amp;rcy;. &amp;Ocy;&amp;ncy; &amp;kcy;&amp;ucy;&amp;pcy;&amp;icy;&amp;lcy; &amp;bcy;&amp;icy;&amp;lcy;&amp;iecy;&amp;tcy;&amp;ocy;&amp;vcy;. &amp;Scy;&amp;kcy;&amp;ocy;&amp;lcy;&amp;softcy;&amp;kcy;&amp;ocy; &amp;scy;&amp;dcy;&amp;acy;&amp;chcy;&amp;icy; &amp;ocy;&amp;ncy; &amp;dcy;&amp;ocy;&amp;lcy;&amp;zhcy;&amp;iecy;&amp;ncy; &amp;pcy;&amp;ocy;&amp;lcy;&amp;ucy;&amp;chcy;&amp;icy;&amp;tcy;&amp;softcy;?"/>
          <p:cNvPicPr/>
          <p:nvPr/>
        </p:nvPicPr>
        <p:blipFill>
          <a:blip r:embed="rId1"/>
          <a:stretch/>
        </p:blipFill>
        <p:spPr>
          <a:xfrm>
            <a:off x="324000" y="749160"/>
            <a:ext cx="835164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Рисунок 1" descr="&amp;Zcy;&amp;acy;&amp;dcy;&amp;acy;&amp;ncy;&amp;icy;&amp;yacy; «&amp;mcy;&amp;ncy;&amp;ocy;&amp;zhcy;&amp;iecy;&amp;scy;&amp;tcy;&amp;vcy;&amp;iecy;&amp;ncy;&amp;ncy;&amp;ocy;&amp;gcy;&amp;ocy; &amp;vcy;&amp;ycy;&amp;bcy;&amp;ocy;&amp;rcy;&amp;acy;»"/>
          <p:cNvPicPr/>
          <p:nvPr/>
        </p:nvPicPr>
        <p:blipFill>
          <a:blip r:embed="rId1"/>
          <a:stretch/>
        </p:blipFill>
        <p:spPr>
          <a:xfrm>
            <a:off x="324000" y="1133640"/>
            <a:ext cx="8424720" cy="56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2" descr=""/>
          <p:cNvPicPr/>
          <p:nvPr/>
        </p:nvPicPr>
        <p:blipFill>
          <a:blip r:embed="rId1"/>
          <a:stretch/>
        </p:blipFill>
        <p:spPr>
          <a:xfrm>
            <a:off x="539640" y="765000"/>
            <a:ext cx="7848720" cy="588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Заголовок 1" descr=""/>
          <p:cNvPicPr/>
          <p:nvPr/>
        </p:nvPicPr>
        <p:blipFill>
          <a:blip r:embed="rId1"/>
          <a:stretch/>
        </p:blipFill>
        <p:spPr>
          <a:xfrm>
            <a:off x="457200" y="706320"/>
            <a:ext cx="8308800" cy="34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Прямоугольник 1"/>
          <p:cNvSpPr/>
          <p:nvPr/>
        </p:nvSpPr>
        <p:spPr>
          <a:xfrm>
            <a:off x="755640" y="1125360"/>
            <a:ext cx="7920000" cy="61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енный заказ – нормативные документы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ГОС НОО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владение навыками смыслового чтения текстов различных стилей и жанров».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Заголовок 1" descr=""/>
          <p:cNvPicPr/>
          <p:nvPr/>
        </p:nvPicPr>
        <p:blipFill>
          <a:blip r:embed="rId1"/>
          <a:stretch/>
        </p:blipFill>
        <p:spPr>
          <a:xfrm>
            <a:off x="530280" y="506520"/>
            <a:ext cx="8150040" cy="55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Прямоугольник 1"/>
          <p:cNvSpPr/>
          <p:nvPr/>
        </p:nvSpPr>
        <p:spPr>
          <a:xfrm>
            <a:off x="747720" y="476280"/>
            <a:ext cx="7921440" cy="70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атегия смыслового чтения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иск и восстановление информации, понимание прочитанного;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образование и интерпретация;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и рефлексия и оценка информации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ёмы развития смыслового  чтения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34136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ения смысловому чтению (до чтения, во время чтения, после чтения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Толстые и тонкие вопросы»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Учимся задавать вопросы разных типов»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оставлять вопросы»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Инсерт»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инквейн»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ерные или неверные утверждения», или «Верите ли Вы?»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Кластера»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 Лови ошибку»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ставить пропущенные (недостающие) слова»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ножество решений, краткой записи»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ометки на полях»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ёмы обучения смысловому чтению 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88640"/>
            <a:ext cx="8229600" cy="43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9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чтения (предвосхищение, предугадывание предстоящего чтения, ключевые слова)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9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время чтения (самостоятельное чтение в классе, или чтение-слушание, или комбинированное чтение)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9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чтения (беседа по тексту)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9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"/>
          <p:cNvPicPr/>
          <p:nvPr/>
        </p:nvPicPr>
        <p:blipFill>
          <a:blip r:embed="rId1"/>
          <a:stretch/>
        </p:blipFill>
        <p:spPr>
          <a:xfrm>
            <a:off x="258840" y="520560"/>
            <a:ext cx="863100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оставление вопросов к задаче»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Маши было 4 игрушки. Ей подарили ещё 5 игрушек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вь вопрос и реши задачу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ыбери подходящий вопрос к задаче»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о всего игрушек?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колько было игрушек больше, чем подарили?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о игрушек было?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о игрушек подарили?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2" descr=""/>
          <p:cNvPicPr/>
          <p:nvPr/>
        </p:nvPicPr>
        <p:blipFill>
          <a:blip r:embed="rId2"/>
          <a:stretch/>
        </p:blipFill>
        <p:spPr>
          <a:xfrm>
            <a:off x="324000" y="692280"/>
            <a:ext cx="8569080" cy="61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05T12:30:53Z</dcterms:created>
  <dc:creator>user</dc:creator>
  <dc:description/>
  <dc:language>en-US</dc:language>
  <cp:lastModifiedBy>Наталья Федорова</cp:lastModifiedBy>
  <dcterms:modified xsi:type="dcterms:W3CDTF">2017-03-20T08:44:41Z</dcterms:modified>
  <cp:revision>46</cp:revision>
  <dc:subject/>
  <dc:title>Презентация PowerPoint</dc:title>
</cp:coreProperties>
</file>